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8ECF-26D5-45F2-8D26-215CFA48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1469-8A42-4E80-B697-3125A6AF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C15F-E2D1-4150-82F7-328D616E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1FBB-71A9-4D0B-84FF-5A737C9C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424E-6630-409A-ABC9-AFEEB8AF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261F-A5EC-4AD4-906D-352755E9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477A-0E60-4F6B-9C24-E64D73D1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1CFB-9B71-4701-B8AD-CB147829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2C9A-BF35-430F-B1C9-C2BA1CAD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4C83-8E70-4261-BE09-B0689B2E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55E7-7C2B-4A4D-93AE-C9CF5294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A292-FCDA-4D7A-AA4D-F26DB12E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D4E8-B2D5-4C12-8312-357A08331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dos cabezas roja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tres ojos azule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cinco pies morado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cuatro manos blanca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diez bocas negra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tres cabezas azule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dos ojos blanco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diez pies negro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cinco manos roja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cuatro bocas morada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tres piernas verde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dos bocas roja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cuatro ojos negro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dos cabezas amarilla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tres manos marróne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tres cabezas verde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seis manos naranja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cinco manos blanca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cuatro bocas negra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tres orejas azule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dos pies rojo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tres bocas azule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cinco manos morada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cuatro pies blanco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diez ojos negro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10 cabezas negra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3 ojos 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ojo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6 manos </a:t>
            </a: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morada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4 bocas </a:t>
            </a:r>
            <a:r>
              <a:rPr b="0" lang="en-GB" sz="3600" spc="-1" strike="noStrike">
                <a:solidFill>
                  <a:srgbClr val="ffcc00"/>
                </a:solidFill>
                <a:latin typeface="Comic Sans MS"/>
              </a:rPr>
              <a:t>amarilla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8 pies </a:t>
            </a:r>
            <a:r>
              <a:rPr b="0" lang="en-GB" sz="3600" spc="-1" strike="noStrike">
                <a:solidFill>
                  <a:srgbClr val="993300"/>
                </a:solidFill>
                <a:latin typeface="Comic Sans MS"/>
              </a:rPr>
              <a:t>marróne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7 cabezas negra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6 ojos </a:t>
            </a:r>
            <a:r>
              <a:rPr b="0" lang="en-GB" sz="3600" spc="-1" strike="noStrike">
                <a:solidFill>
                  <a:srgbClr val="ff6600"/>
                </a:solidFill>
                <a:latin typeface="Comic Sans MS"/>
              </a:rPr>
              <a:t>naranja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5 manos </a:t>
            </a: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azule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4 bocas </a:t>
            </a:r>
            <a:r>
              <a:rPr b="0" lang="en-GB" sz="3600" spc="-1" strike="noStrike">
                <a:solidFill>
                  <a:srgbClr val="ffcc00"/>
                </a:solidFill>
                <a:latin typeface="Comic Sans MS"/>
              </a:rPr>
              <a:t>amarilla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12 pies </a:t>
            </a:r>
            <a:r>
              <a:rPr b="0" lang="en-GB" sz="3600" spc="-1" strike="noStrike">
                <a:solidFill>
                  <a:srgbClr val="009900"/>
                </a:solidFill>
                <a:latin typeface="Comic Sans MS"/>
              </a:rPr>
              <a:t>verde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4 cabezas </a:t>
            </a:r>
            <a:r>
              <a:rPr b="0" lang="en-GB" sz="3600" spc="-1" strike="noStrike">
                <a:solidFill>
                  <a:srgbClr val="ff66cc"/>
                </a:solidFill>
                <a:latin typeface="Comic Sans MS"/>
              </a:rPr>
              <a:t>rosada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3ojos 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ojo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5 manos </a:t>
            </a: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morada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6 bocas </a:t>
            </a:r>
            <a:r>
              <a:rPr b="0" lang="en-GB" sz="3600" spc="-1" strike="noStrike">
                <a:solidFill>
                  <a:srgbClr val="009900"/>
                </a:solidFill>
                <a:latin typeface="Comic Sans MS"/>
              </a:rPr>
              <a:t>verde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8 pies negro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1:57:58Z</dcterms:created>
  <dc:creator>Helen</dc:creator>
  <dc:description/>
  <dc:language>en-US</dc:language>
  <cp:lastModifiedBy>Helen</cp:lastModifiedBy>
  <dcterms:modified xsi:type="dcterms:W3CDTF">2010-05-26T20:30:00Z</dcterms:modified>
  <cp:revision>4</cp:revision>
  <dc:subject/>
  <dc:title>     Mi monstruo tiene dos cabezas rojas. Mi monstruo tiene tres ojos azules. Mi monstruo tiene cinco pies morados. Mi monstruo tiene cuatro manos blancas. Mi monstruo tiene diez bocas negras. </dc:title>
</cp:coreProperties>
</file>